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40880" y="380808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180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904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5756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4088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904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5756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40880" y="274320"/>
            <a:ext cx="75661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180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40880" y="380808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180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904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5756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4088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9904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5756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40880" y="274320"/>
            <a:ext cx="75661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180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740880" y="380808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180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9904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5756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74088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9904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5756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740880" y="274320"/>
            <a:ext cx="75661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180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740880" y="380808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180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9904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85756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74088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9904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85756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40880" y="274320"/>
            <a:ext cx="75661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180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6fb7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1240" y="6356520"/>
            <a:ext cx="1849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474747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B02C16-3813-4334-BAFA-2FDF5B6382A9}" type="datetime">
              <a:rPr b="0" lang="fr-FR" sz="1200" spc="-1" strike="noStrike">
                <a:solidFill>
                  <a:srgbClr val="474747"/>
                </a:solidFill>
                <a:latin typeface="Times New Roman"/>
                <a:ea typeface="Arial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24200" y="6356520"/>
            <a:ext cx="326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Connecteur droit 11"/>
          <p:cNvSpPr/>
          <p:nvPr/>
        </p:nvSpPr>
        <p:spPr>
          <a:xfrm flipH="1">
            <a:off x="587520" y="0"/>
            <a:ext cx="1440" cy="658800"/>
          </a:xfrm>
          <a:prstGeom prst="line">
            <a:avLst/>
          </a:prstGeom>
          <a:ln w="25560">
            <a:solidFill>
              <a:srgbClr val="006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5" name="Picture 9" descr="ppt"/>
          <p:cNvPicPr/>
          <p:nvPr/>
        </p:nvPicPr>
        <p:blipFill>
          <a:blip r:embed="rId2"/>
          <a:stretch/>
        </p:blipFill>
        <p:spPr>
          <a:xfrm>
            <a:off x="6326280" y="6039000"/>
            <a:ext cx="2552760" cy="70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Image 9" descr="OHCHR_logo_EN_blue.png"/>
          <p:cNvPicPr/>
          <p:nvPr/>
        </p:nvPicPr>
        <p:blipFill>
          <a:blip r:embed="rId2"/>
          <a:stretch/>
        </p:blipFill>
        <p:spPr>
          <a:xfrm>
            <a:off x="7099200" y="6018120"/>
            <a:ext cx="1825560" cy="660600"/>
          </a:xfrm>
          <a:prstGeom prst="rect">
            <a:avLst/>
          </a:prstGeom>
          <a:ln w="0">
            <a:noFill/>
          </a:ln>
        </p:spPr>
      </p:pic>
      <p:pic>
        <p:nvPicPr>
          <p:cNvPr id="43" name="Image 6" descr="UN_logo.jpg"/>
          <p:cNvPicPr/>
          <p:nvPr/>
        </p:nvPicPr>
        <p:blipFill>
          <a:blip r:embed="rId3"/>
          <a:stretch/>
        </p:blipFill>
        <p:spPr>
          <a:xfrm>
            <a:off x="6308640" y="6188040"/>
            <a:ext cx="574920" cy="573120"/>
          </a:xfrm>
          <a:prstGeom prst="rect">
            <a:avLst/>
          </a:prstGeom>
          <a:ln w="0">
            <a:noFill/>
          </a:ln>
        </p:spPr>
      </p:pic>
      <p:sp>
        <p:nvSpPr>
          <p:cNvPr id="44" name="Connecteur droit 11"/>
          <p:cNvSpPr/>
          <p:nvPr/>
        </p:nvSpPr>
        <p:spPr>
          <a:xfrm flipH="1">
            <a:off x="587520" y="0"/>
            <a:ext cx="1440" cy="658800"/>
          </a:xfrm>
          <a:prstGeom prst="line">
            <a:avLst/>
          </a:prstGeom>
          <a:ln w="25560">
            <a:solidFill>
              <a:srgbClr val="006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5" name="Image 8" descr="title_slide_background_3_shine.jpg"/>
          <p:cNvPicPr/>
          <p:nvPr/>
        </p:nvPicPr>
        <p:blipFill>
          <a:blip r:embed="rId4"/>
          <a:stretch/>
        </p:blipFill>
        <p:spPr>
          <a:xfrm>
            <a:off x="-6480" y="0"/>
            <a:ext cx="9155160" cy="6865920"/>
          </a:xfrm>
          <a:prstGeom prst="rect">
            <a:avLst/>
          </a:prstGeom>
          <a:ln w="0">
            <a:noFill/>
          </a:ln>
        </p:spPr>
      </p:pic>
      <p:sp>
        <p:nvSpPr>
          <p:cNvPr id="46" name="Connecteur droit 12"/>
          <p:cNvSpPr/>
          <p:nvPr/>
        </p:nvSpPr>
        <p:spPr>
          <a:xfrm flipH="1">
            <a:off x="587520" y="1440"/>
            <a:ext cx="1440" cy="28749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7" name="Picture 12" descr="ppt_white"/>
          <p:cNvPicPr/>
          <p:nvPr/>
        </p:nvPicPr>
        <p:blipFill>
          <a:blip r:embed="rId5"/>
          <a:stretch/>
        </p:blipFill>
        <p:spPr>
          <a:xfrm>
            <a:off x="4278240" y="5413320"/>
            <a:ext cx="4140360" cy="11509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6fb7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Connecteur droit 11"/>
          <p:cNvSpPr/>
          <p:nvPr/>
        </p:nvSpPr>
        <p:spPr>
          <a:xfrm flipH="1">
            <a:off x="587520" y="0"/>
            <a:ext cx="1440" cy="658800"/>
          </a:xfrm>
          <a:prstGeom prst="line">
            <a:avLst/>
          </a:prstGeom>
          <a:ln w="25560">
            <a:solidFill>
              <a:srgbClr val="006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87" name="Picture 9" descr="ppt"/>
          <p:cNvPicPr/>
          <p:nvPr/>
        </p:nvPicPr>
        <p:blipFill>
          <a:blip r:embed="rId2"/>
          <a:stretch/>
        </p:blipFill>
        <p:spPr>
          <a:xfrm>
            <a:off x="6326280" y="6039000"/>
            <a:ext cx="2552760" cy="7077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6fb7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3"/>
          </p:nvPr>
        </p:nvSpPr>
        <p:spPr>
          <a:xfrm>
            <a:off x="714240" y="6356520"/>
            <a:ext cx="2751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474747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63531F-2E07-4343-8EAD-6D2E3A1A3564}" type="datetime">
              <a:rPr b="0" lang="fr-FR" sz="1200" spc="-1" strike="noStrike">
                <a:solidFill>
                  <a:srgbClr val="474747"/>
                </a:solidFill>
                <a:latin typeface="Times New Roman"/>
                <a:ea typeface="Arial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4"/>
          </p:nvPr>
        </p:nvSpPr>
        <p:spPr>
          <a:xfrm>
            <a:off x="3575160" y="6356520"/>
            <a:ext cx="365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Connecteur droit 11"/>
          <p:cNvSpPr/>
          <p:nvPr/>
        </p:nvSpPr>
        <p:spPr>
          <a:xfrm flipH="1">
            <a:off x="587520" y="0"/>
            <a:ext cx="1440" cy="658800"/>
          </a:xfrm>
          <a:prstGeom prst="line">
            <a:avLst/>
          </a:prstGeom>
          <a:ln w="25560">
            <a:solidFill>
              <a:srgbClr val="006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9" name="Picture 9" descr="ppt"/>
          <p:cNvPicPr/>
          <p:nvPr/>
        </p:nvPicPr>
        <p:blipFill>
          <a:blip r:embed="rId2"/>
          <a:stretch/>
        </p:blipFill>
        <p:spPr>
          <a:xfrm>
            <a:off x="6326280" y="6039000"/>
            <a:ext cx="2552760" cy="70776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6fb7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5"/>
          </p:nvPr>
        </p:nvSpPr>
        <p:spPr>
          <a:xfrm>
            <a:off x="850680" y="6356520"/>
            <a:ext cx="1739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474747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1C7EFA-FEBB-4631-B83A-E53E68174920}" type="datetime">
              <a:rPr b="0" lang="fr-FR" sz="1200" spc="-1" strike="noStrike">
                <a:solidFill>
                  <a:srgbClr val="474747"/>
                </a:solidFill>
                <a:latin typeface="Times New Roman"/>
                <a:ea typeface="Arial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6"/>
          </p:nvPr>
        </p:nvSpPr>
        <p:spPr>
          <a:xfrm>
            <a:off x="2824200" y="6356520"/>
            <a:ext cx="326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ZoneTexte 3"/>
          <p:cNvSpPr/>
          <p:nvPr/>
        </p:nvSpPr>
        <p:spPr>
          <a:xfrm>
            <a:off x="723960" y="3209760"/>
            <a:ext cx="52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Pierre SOB and Saori TERADA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723600" y="4247640"/>
            <a:ext cx="6589800" cy="9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HCHR Training package on gender integration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Geneva (January 2013  update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723600" y="2041200"/>
            <a:ext cx="6589800" cy="11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DATA AND INFORMATION COLLECTION AND ANALYSIS</a:t>
            </a:r>
            <a:endParaRPr b="1" lang="en-US" sz="2800" spc="-1" strike="noStrike">
              <a:solidFill>
                <a:srgbClr val="006f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40880" y="274680"/>
            <a:ext cx="7566120" cy="7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6fb7"/>
                </a:solidFill>
                <a:latin typeface="Arial"/>
              </a:rPr>
              <a:t>SEX DISAGGREGATED STATISTICS (2)</a:t>
            </a:r>
            <a:endParaRPr b="1" lang="en-US" sz="28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40880" y="1309320"/>
            <a:ext cx="7566120" cy="42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Increase the possibility to reach higher levels of satisfaction in regards to men’s and women’s different requirements and living condition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Monitor and evaluate given policie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Increase the need for further use of sex disaggregated statistic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6fb7"/>
                </a:solidFill>
                <a:latin typeface="Arial"/>
              </a:rPr>
              <a:t>PARTNERSHIPS REQUIRED FOR DATA COLLECTION AND ANALYSIS</a:t>
            </a:r>
            <a:endParaRPr b="1" lang="en-US" sz="28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740880" y="1498680"/>
            <a:ext cx="7566120" cy="44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333333"/>
                </a:solidFill>
                <a:latin typeface="Arial"/>
              </a:rPr>
              <a:t>United Nations family entities, including UN Women, UN Country Teams and UN Coordination Machinery</a:t>
            </a:r>
            <a:endParaRPr b="0" lang="en-US" sz="23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333333"/>
                </a:solidFill>
                <a:latin typeface="Arial"/>
              </a:rPr>
              <a:t>Inter Agency Mechanisms on Women’s Human Rights and Gender related issues</a:t>
            </a:r>
            <a:endParaRPr b="0" lang="en-US" sz="23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333333"/>
                </a:solidFill>
                <a:latin typeface="Arial"/>
              </a:rPr>
              <a:t>Regional Organizations</a:t>
            </a:r>
            <a:endParaRPr b="0" lang="en-US" sz="23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333333"/>
                </a:solidFill>
                <a:latin typeface="Arial"/>
              </a:rPr>
              <a:t>Member States</a:t>
            </a:r>
            <a:endParaRPr b="0" lang="en-US" sz="23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333333"/>
                </a:solidFill>
                <a:latin typeface="Arial"/>
              </a:rPr>
              <a:t>National Human Rights Institutions</a:t>
            </a:r>
            <a:endParaRPr b="0" lang="en-US" sz="23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333333"/>
                </a:solidFill>
                <a:latin typeface="Arial"/>
              </a:rPr>
              <a:t>Civil Society Organizations, including women's human rights NGOs, with a particular focus on grass roots organizations</a:t>
            </a:r>
            <a:endParaRPr b="0" lang="en-US" sz="23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333333"/>
                </a:solidFill>
                <a:latin typeface="Arial"/>
              </a:rPr>
              <a:t>Academia</a:t>
            </a:r>
            <a:endParaRPr b="0" lang="en-US" sz="23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Image 6" descr="title_slide_background_3_white.jpg"/>
          <p:cNvPicPr/>
          <p:nvPr/>
        </p:nvPicPr>
        <p:blipFill>
          <a:blip r:embed="rId1"/>
          <a:stretch/>
        </p:blipFill>
        <p:spPr>
          <a:xfrm>
            <a:off x="4130640" y="0"/>
            <a:ext cx="5013360" cy="423072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006fb7"/>
                </a:solidFill>
                <a:latin typeface="Arial"/>
              </a:rPr>
              <a:t>QUESTIONS AND ANSWERS</a:t>
            </a:r>
            <a:endParaRPr b="1" lang="en-US" sz="28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740880" y="1498680"/>
            <a:ext cx="7566120" cy="462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600" spc="-1" strike="noStrike">
                <a:solidFill>
                  <a:srgbClr val="333333"/>
                </a:solidFill>
                <a:latin typeface="Arial"/>
              </a:rPr>
              <a:t>For further information, 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600" spc="-1" strike="noStrike">
                <a:solidFill>
                  <a:srgbClr val="333333"/>
                </a:solidFill>
                <a:latin typeface="Arial"/>
              </a:rPr>
              <a:t>please visit: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2600" spc="-1" strike="noStrike">
                <a:solidFill>
                  <a:srgbClr val="006fb7"/>
                </a:solidFill>
                <a:latin typeface="Arial"/>
              </a:rPr>
              <a:t>www.ohchr.org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40880" y="274680"/>
            <a:ext cx="7566120" cy="93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6fb7"/>
                </a:solidFill>
                <a:latin typeface="Arial"/>
              </a:rPr>
              <a:t>WHAT YOU SHOULD KNOW ABOUT GENDER SENSITIVE INDICATORS</a:t>
            </a:r>
            <a:endParaRPr b="1" lang="en-US" sz="28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58720" y="1337760"/>
            <a:ext cx="832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Is not «sex» indicator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Does not focus on women only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Does not aggregate women and men as homogeneous groups, but rather compares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Women and Women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Men and Men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Women and Men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Includes men in the «gender picture»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Measures practical and strategic gender need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Includes Empowermen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Goes beyond access – it is about power relations between Women and Me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6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006fb7"/>
                </a:solidFill>
                <a:latin typeface="Arial"/>
              </a:rPr>
              <a:t>NATURE OF GENDER INDICATORS</a:t>
            </a:r>
            <a:endParaRPr b="1" lang="en-US" sz="28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45760" y="1104480"/>
            <a:ext cx="7761240" cy="502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rmal/Substantive equality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Indicators that capture the nature of access, and not just availability, to such goods and services that allow the individual to enjoy her/his human right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Assessment of the extent to which the principle of empowerment is being respected, promoted and achieved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Human Rights indicators: Issues for gend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Contextual relevance of indicators (Who decides what)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Indivisibility of human rights (Current focus is more on economic empowerment – other aspects should be addressed; i.e.: participation)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Objective information and data-generating mechanisms (Confidentiality-Who deals with/manages collected data)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40880" y="274680"/>
            <a:ext cx="7566120" cy="7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6fb7"/>
                </a:solidFill>
                <a:latin typeface="Arial"/>
              </a:rPr>
              <a:t>TYPOLOGY OF GENDER INDICATORS (1)</a:t>
            </a:r>
            <a:endParaRPr b="1" lang="en-US" sz="28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740880" y="1201680"/>
            <a:ext cx="756612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International indicators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illennium Development Goals (MDGs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Gender related Development Index (GDI/UNDP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Gender Empowerment Measure (GEM/UNDP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Gender Gap Index (GGI/World Economic Forum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Regional Indicators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United Nations (ECLAC/MENA/ESCAP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frican Gender Development Index (AGDI/UNECA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Gender Status Index </a:t>
            </a:r>
            <a:r>
              <a:rPr b="0" lang="fr-FR" sz="2400" spc="-1" strike="noStrike">
                <a:solidFill>
                  <a:srgbClr val="333333"/>
                </a:solidFill>
                <a:latin typeface="Arial"/>
              </a:rPr>
              <a:t>(GSI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70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6fb7"/>
                </a:solidFill>
                <a:latin typeface="Arial"/>
              </a:rPr>
              <a:t>TYPOLOGY OF GENDER INDICATORS (2)</a:t>
            </a:r>
            <a:endParaRPr b="1" lang="en-US" sz="28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740880" y="1240920"/>
            <a:ext cx="7566120" cy="473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Measuring internal organizational changes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UNDP Gender Mainstreaming Scoreboar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ECD (DAC on gender) Gender Marker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OHCHR  Gender Indicator Framework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tructural indicators (Legal basis for facilitating the realization of gender equality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ocess indicators (Engendered procedures in the implementation of policies programmes and other validation processes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utcome indicators (Captures attainments and impact of gender equality related measures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10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6fb7"/>
                </a:solidFill>
                <a:latin typeface="Arial"/>
              </a:rPr>
              <a:t>THE ROLE OF GENDER SENSITIVE INDICATORS (1)</a:t>
            </a:r>
            <a:endParaRPr b="1" lang="en-US" sz="28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740880" y="1706400"/>
            <a:ext cx="7566120" cy="39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olicy/Politica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Identify the extent of inequality, its causes and monitor impact of policies adopted over time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Lobbying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Raise consciousness, provide ideas and unbiased basis for policies and monitor and evaluate policies and measures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6fb7"/>
                </a:solidFill>
                <a:latin typeface="Arial"/>
              </a:rPr>
              <a:t>THE ROLE OF GENDER SENSITIVE INDICATORS (2)</a:t>
            </a:r>
            <a:endParaRPr b="1" lang="en-US" sz="28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740880" y="1787400"/>
            <a:ext cx="756612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ociety monitoring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Indicators disaggregated by sex notably, and designed to demonstrate changes in relations between W/M 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lanning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Allow for a clear demonstration that gender roles have been carefully considered and addressed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6fb7"/>
                </a:solidFill>
                <a:latin typeface="Arial"/>
              </a:rPr>
              <a:t>DEVELOPING GENDER SENSITIVE INDICATORS IN TEN POINTS</a:t>
            </a:r>
            <a:endParaRPr b="1" lang="en-US" sz="28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40880" y="1498680"/>
            <a:ext cx="7566120" cy="44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bjectiv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tuation analysi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lanning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articipation in planning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Defining outcom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artnerships/Actor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Definition of indicator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ocess indicator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Long term indicators (3-5 years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onitoring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40880" y="274680"/>
            <a:ext cx="7566120" cy="7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6fb7"/>
                </a:solidFill>
                <a:latin typeface="Arial"/>
              </a:rPr>
              <a:t>SEX DISAGGREGATED STATISTICS (1)</a:t>
            </a:r>
            <a:endParaRPr b="1" lang="en-US" sz="28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740880" y="1201320"/>
            <a:ext cx="7566120" cy="47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ex-disaggregated statistics reveal women and men’s different conditions with a focus on organizational structures and processes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tatistics presented by sex means that girls and boys, women and men will become visible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ex disaggregated statistics will bring new knowledge of reality: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ncreased knowledge gives higher rationality and efficiency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9T14:44:31Z</dcterms:created>
  <dc:creator>Eddy Hill</dc:creator>
  <dc:description/>
  <dc:language>en-US</dc:language>
  <cp:lastModifiedBy>Pierre SOB</cp:lastModifiedBy>
  <dcterms:modified xsi:type="dcterms:W3CDTF">2013-01-09T21:40:05Z</dcterms:modified>
  <cp:revision>155</cp:revision>
  <dc:subject/>
  <dc:title>Englis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  <property fmtid="{D5CDD505-2E9C-101B-9397-08002B2CF9AE}" pid="3" name="Office Template">
    <vt:lpwstr>Presentation (Powerpoint)</vt:lpwstr>
  </property>
  <property fmtid="{D5CDD505-2E9C-101B-9397-08002B2CF9AE}" pid="4" name="PublishingExpirationDate">
    <vt:lpwstr/>
  </property>
  <property fmtid="{D5CDD505-2E9C-101B-9397-08002B2CF9AE}" pid="5" name="PublishingStartDate">
    <vt:lpwstr/>
  </property>
  <property fmtid="{D5CDD505-2E9C-101B-9397-08002B2CF9AE}" pid="6" name="TemplateUrl">
    <vt:lpwstr/>
  </property>
  <property fmtid="{D5CDD505-2E9C-101B-9397-08002B2CF9AE}" pid="7" name="display_urn:schemas-microsoft-com:office:office#Author">
    <vt:lpwstr>David McCreery</vt:lpwstr>
  </property>
  <property fmtid="{D5CDD505-2E9C-101B-9397-08002B2CF9AE}" pid="8" name="display_urn:schemas-microsoft-com:office:office#Editor">
    <vt:lpwstr>David McCreery</vt:lpwstr>
  </property>
  <property fmtid="{D5CDD505-2E9C-101B-9397-08002B2CF9AE}" pid="9" name="xd_ProgID">
    <vt:lpwstr/>
  </property>
  <property fmtid="{D5CDD505-2E9C-101B-9397-08002B2CF9AE}" pid="10" name="xd_Signature">
    <vt:lpwstr/>
  </property>
</Properties>
</file>